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potential extent of the miombo and mopane woodlands of southern Africa, based on vegetation maps and expert opinion [2]. Conversions to croplands, urban areas etc. are not indicated. The inset shows the extent of African savannas [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uman population density in 2000 (GRUMP v1 [59,60]), crop production in 2005 (MAPSPAM v2 [61]) and cattle in 2005 (Gridded Livestock of the World 2 [62]) in the woodland region. MAPSPAM data show the quantity of crop(s) produced in each 10 km by 10 km grid cell. The former Katanga province of the D. R. Congo is included in these maps as it is largely covered by woodlands; however, due to sparse subnational data it is not included in analyses elsewhere in this pap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cosystem services from southern African woodlands and their future under global chang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asey M. Ryan, Rose Pritchard, Iain McNicol, Matthew Owen, Janet A. Fisher, and Caroline Lehman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hilosophical Transactions B</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71(1703):2015031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9, 2016</a:t>
            </a:r>
            <a:endParaRPr b="0" lang="en-US" sz="1800" spc="-1" strike="noStrike">
              <a:solidFill>
                <a:srgbClr val="000000"/>
              </a:solidFill>
              <a:latin typeface="Times New Roman"/>
            </a:endParaRPr>
          </a:p>
        </p:txBody>
      </p:sp>
      <p:sp>
        <p:nvSpPr>
          <p:cNvPr id="44" name=""/>
          <p:cNvSpPr/>
          <p:nvPr/>
        </p:nvSpPr>
        <p:spPr>
          <a:xfrm>
            <a:off x="108000" y="711036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The Author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999640" y="6983280"/>
            <a:ext cx="752400" cy="409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potential extent of the miombo and mopane woodlands of southern Africa, based on vegetation maps and expert opinion [2].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999640" y="6983280"/>
            <a:ext cx="752400" cy="409680"/>
          </a:xfrm>
          <a:prstGeom prst="rect">
            <a:avLst/>
          </a:prstGeom>
          <a:ln w="0">
            <a:noFill/>
          </a:ln>
        </p:spPr>
      </p:pic>
      <p:pic>
        <p:nvPicPr>
          <p:cNvPr id="48" name="" descr=""/>
          <p:cNvPicPr/>
          <p:nvPr/>
        </p:nvPicPr>
        <p:blipFill>
          <a:blip r:embed="rId2"/>
          <a:stretch/>
        </p:blipFill>
        <p:spPr>
          <a:xfrm>
            <a:off x="2224080" y="1079640"/>
            <a:ext cx="5637240" cy="5394240"/>
          </a:xfrm>
          <a:prstGeom prst="rect">
            <a:avLst/>
          </a:prstGeom>
          <a:ln w="0">
            <a:noFill/>
          </a:ln>
        </p:spPr>
      </p:pic>
      <p:sp>
        <p:nvSpPr>
          <p:cNvPr id="49" name=""/>
          <p:cNvSpPr/>
          <p:nvPr/>
        </p:nvSpPr>
        <p:spPr>
          <a:xfrm>
            <a:off x="2224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sey M. Ryan et al. Phil. Trans. R. Soc. B 2016;371:20150312</a:t>
            </a:r>
            <a:endParaRPr b="0" lang="en-US" sz="1200" spc="-1" strike="noStrike">
              <a:solidFill>
                <a:srgbClr val="000000"/>
              </a:solidFill>
              <a:latin typeface="Times New Roman"/>
            </a:endParaRPr>
          </a:p>
        </p:txBody>
      </p:sp>
      <p:sp>
        <p:nvSpPr>
          <p:cNvPr id="50" name=""/>
          <p:cNvSpPr/>
          <p:nvPr/>
        </p:nvSpPr>
        <p:spPr>
          <a:xfrm>
            <a:off x="108000" y="711036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The Author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uman population density in 2000 (GRUMP v1 [59,60]), crop production in 2005 (MAPSPAM v2 [61]) and cattle in 2005 (Gridded Livestock of the World 2 [62]) in the woodland reg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999640" y="6983280"/>
            <a:ext cx="752400" cy="409680"/>
          </a:xfrm>
          <a:prstGeom prst="rect">
            <a:avLst/>
          </a:prstGeom>
          <a:ln w="0">
            <a:noFill/>
          </a:ln>
        </p:spPr>
      </p:pic>
      <p:pic>
        <p:nvPicPr>
          <p:cNvPr id="53" name="" descr=""/>
          <p:cNvPicPr/>
          <p:nvPr/>
        </p:nvPicPr>
        <p:blipFill>
          <a:blip r:embed="rId2"/>
          <a:stretch/>
        </p:blipFill>
        <p:spPr>
          <a:xfrm>
            <a:off x="739800" y="1400040"/>
            <a:ext cx="8604360" cy="475308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sey M. Ryan et al. Phil. Trans. R. Soc. B 2016;371:20150312</a:t>
            </a:r>
            <a:endParaRPr b="0" lang="en-US" sz="1200" spc="-1" strike="noStrike">
              <a:solidFill>
                <a:srgbClr val="000000"/>
              </a:solidFill>
              <a:latin typeface="Times New Roman"/>
            </a:endParaRPr>
          </a:p>
        </p:txBody>
      </p:sp>
      <p:sp>
        <p:nvSpPr>
          <p:cNvPr id="55" name=""/>
          <p:cNvSpPr/>
          <p:nvPr/>
        </p:nvSpPr>
        <p:spPr>
          <a:xfrm>
            <a:off x="108000" y="711036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6 The Author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