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trade-offs model, modified from Lee [31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stress–response model, modified from Dhabhar [40]. In this model, blue represents immune enhancement, green represents homoeostasis and red represents immune suppression/dys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orest plots showing effect sizes for the five tests of immune response that demonstrated a significant relationship with social status in table 2. Positive values indicate higher responses in subordinates; negative values indicate higher responses in dominants. Plots include the effect sizes for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DTH responses to immune stimulants,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mmunoglobulin responses to antigens,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baseline IFN-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levels,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L-6 response to immune stimulants and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TNF-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response to immune stimulants. Values in brackets represent the 95% CI lower limit and the 95% CI upper limit; the value outside brackets represents the effect siz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each study. Letters following an author's name represent studies of the same test on multiple, independent populations. I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which shows baseline IFN-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γ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levels, grey diamonds represent a fitted value for each study that incorporates taxa as a mode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 forest plot showing the effect sizes of all studies that tested the effects of social status on patterns of parasitism. Positive values indicate lower parasitism in subordinates; negative values indicate higher parasitism in dominants. The values in brackets represent the 95% CI lower limit and the 95% CI upper limit; the value outside brackets represents the effect siz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each study. Letters following an author's name represent studies of the same test on multiple, independent populations. Grey diamonds represent a fitted value for each study that incorporates taxa as a mode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 status, immune response and parasitism in males: a meta-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Bobby Habig, and Elizabeth A. Arch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hilosophical Transaction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70(1669):20140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6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trade-offs model, modified from Lee [31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4600" y="1079640"/>
            <a:ext cx="6858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46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bby Habig, and Elizabeth A. Archie Phil. Trans. R. Soc. B 2015;370:20140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tress–response model, modified from Dhabhar [40]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17840" y="1079640"/>
            <a:ext cx="50497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178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bby Habig, and Elizabeth A. Archie Phil. Trans. R. Soc. B 2015;370:20140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st plots showing effect sizes for the five tests of immune response that demonstrated a significant relationship with social status in table 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90760" y="1079640"/>
            <a:ext cx="71038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907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bby Habig, and Elizabeth A. Archie Phil. Trans. R. Soc. B 2015;370:20140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orest plot showing the effect sizes of all studies that tested the effects of social status on patterns of parasitis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457280"/>
            <a:ext cx="8604360" cy="4638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bby Habig, and Elizabeth A. Archie Phil. Trans. R. Soc. B 2015;370:20140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