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ylized examples of two different circulating GC temporal profiles that would produce simila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redictions about adaptive temporal patterns of GC production in a dominant versus subordinate individual in two different social systems: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where dominant individuals maintain elevat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production relative to subordinate individuals and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where subordinate individuals maintain elevat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production relative to dominant individuals. Square indicat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concentration for dominant individuals, circle indicat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concentration for subordinate individuals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In the ‘stress dynamics of dominance’ scenario, the dominant individual has elevat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production as a result of grea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ea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duction compared with subordinate individuals; this is a pattern that may confer metabolic, reproductive, immune and/or cognitive benefits to the dominant individual and support increased survival/fitness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In the ‘stress dynamics of subordination’ scenario, the subordinate individual has elevat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e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GC production as a result of greate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oug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roduction and/or slower returns to baseline compared with dominant individuals, and this pattern may incur decreased fitness/survival benefits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x, social status and physiological stress in primates: the importance of social and glucocorticoid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onia A. Cavigelli, and Michael J. Car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hilosophical Transactions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70(1669):20140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y 26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5 The Author(s) Published by the Royal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ylized examples of two different circulating GC temporal profiles that would produce similar mean GC lev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60480" y="1079640"/>
            <a:ext cx="816300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604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nia A. Cavigelli, and Michael J. Caruso Phil. Trans. R. Soc. B 2015;370:20140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5 The Author(s) Published by the Royal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dictions about adaptive temporal patterns of GC production in a dominant versus subordinate individual in two different social systems: (a) where dominant individuals maintain elevated mean GC production relative to subordinate individuals and (b) where subordinate individuals maintain elevated mean GC production relative to dominant individual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999640" y="6983280"/>
            <a:ext cx="752400" cy="4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06600" y="1079640"/>
            <a:ext cx="34736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066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nia A. Cavigelli, and Michael J. Caruso Phil. Trans. R. Soc. B 2015;370:20140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11036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5 The Author(s) Published by the Royal Societ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